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wmf" ContentType="image/x-wmf"/>
  <Override PartName="/ppt/media/image14.jpeg" ContentType="image/jpeg"/>
  <Override PartName="/ppt/media/image9.jpeg" ContentType="image/jpeg"/>
  <Override PartName="/ppt/media/image17.png" ContentType="image/png"/>
  <Override PartName="/ppt/media/image2.png" ContentType="image/png"/>
  <Override PartName="/ppt/media/image4.jpeg" ContentType="image/jpeg"/>
  <Override PartName="/ppt/media/image16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C2C4-C677-4685-ACC0-5CA1EC0A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0237-1EA8-4A78-B463-FCF4DCC1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DAE-DA57-4E0A-AA64-9ADB99C6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CAC3-9B4B-4698-9F4A-9C4E411C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A9C23-B0CB-44D1-91A9-41A8092A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77A43-CBDD-4AB5-93F6-4F16C339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9EEA0-53A5-4FE9-BFCF-69166FC5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44235-11A8-44A3-BA1A-05E4803A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15E522-A178-4A6B-9205-B569B9F9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3F7CB-6842-458F-8728-B9E0443E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FB1A6-4450-44B8-A34B-D754CE45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5D24-C22C-496A-8BDC-4FD80491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321B8-2129-4909-B3E9-CADA3626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54E1D-072C-4503-9D38-6D492E26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5DDFE-1596-4BE9-A767-7BE3E2FF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08369-E3D7-4F69-B331-EB1CAE91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BECD0-9F38-48F9-B1E4-105CB7E8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1CFD-DB52-4C64-9CE3-8A4E2611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A753-0124-4780-9CD5-AF38ECBC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C607-E5B4-4491-BC93-A19FD037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4C24-2123-4F06-B4B7-807CBA47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F1F-20FB-497E-AEEF-92179B3B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EE1A-7158-4700-86D6-5320AA3C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AB1C-E2DB-41E5-AB69-890D15B1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B3EA-33F3-47DE-B11A-01A7019B4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8C9F-185E-4D33-8ACF-68C87878C3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~PP2916.WAV" TargetMode="External"/><Relationship Id="rId3" Type="http://schemas.microsoft.com/office/2007/relationships/media" Target="file:///tmp/home/.config/libreoffice/4/user/gallery/~PP2916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file:///tmp/home/.config/libreoffice/4/user/gallery/~PP2648.WAV" TargetMode="External"/><Relationship Id="rId4" Type="http://schemas.microsoft.com/office/2007/relationships/media" Target="file:///tmp/home/.config/libreoffice/4/user/gallery/~PP264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file:///tmp/home/.config/libreoffice/4/user/gallery/~PP1474.WAV" TargetMode="External"/><Relationship Id="rId4" Type="http://schemas.microsoft.com/office/2007/relationships/media" Target="file:///tmp/home/.config/libreoffice/4/user/gallery/~PP1474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audio" Target="file:///tmp/home/.config/libreoffice/4/user/gallery/~PP581.WAV" TargetMode="External"/><Relationship Id="rId4" Type="http://schemas.microsoft.com/office/2007/relationships/media" Target="file:///tmp/home/.config/libreoffice/4/user/gallery/~PP581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file:///tmp/home/.config/libreoffice/4/user/gallery/~PP2220.WAV" TargetMode="External"/><Relationship Id="rId4" Type="http://schemas.microsoft.com/office/2007/relationships/media" Target="file:///tmp/home/.config/libreoffice/4/user/gallery/~PP2220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audio" Target="file:///tmp/home/.config/libreoffice/4/user/gallery/~PP1342.WAV" TargetMode="External"/><Relationship Id="rId4" Type="http://schemas.microsoft.com/office/2007/relationships/media" Target="file:///tmp/home/.config/libreoffice/4/user/gallery/~PP1342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audio" Target="file:///tmp/home/.config/libreoffice/4/user/gallery/~PP75.WAV" TargetMode="External"/><Relationship Id="rId4" Type="http://schemas.microsoft.com/office/2007/relationships/media" Target="file:///tmp/home/.config/libreoffice/4/user/gallery/~PP75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audio" Target="file:///tmp/home/.config/libreoffice/4/user/gallery/~PP2918.WAV" TargetMode="External"/><Relationship Id="rId4" Type="http://schemas.microsoft.com/office/2007/relationships/media" Target="file:///tmp/home/.config/libreoffice/4/user/gallery/~PP291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file:///tmp/home/.config/libreoffice/4/user/gallery/~PP2242.WAV" TargetMode="External"/><Relationship Id="rId4" Type="http://schemas.microsoft.com/office/2007/relationships/media" Target="file:///tmp/home/.config/libreoffice/4/user/gallery/~PP2242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file:///tmp/home/.config/libreoffice/4/user/gallery/~PP1131.WAV" TargetMode="External"/><Relationship Id="rId4" Type="http://schemas.microsoft.com/office/2007/relationships/media" Target="file:///tmp/home/.config/libreoffice/4/user/gallery/~PP1131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file:///tmp/home/.config/libreoffice/4/user/gallery/~PP4068.WAV" TargetMode="External"/><Relationship Id="rId4" Type="http://schemas.microsoft.com/office/2007/relationships/media" Target="file:///tmp/home/.config/libreoffice/4/user/gallery/~PP4068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audio" Target="file:///tmp/home/.config/libreoffice/4/user/gallery/~PP3066.WAV" TargetMode="External"/><Relationship Id="rId4" Type="http://schemas.microsoft.com/office/2007/relationships/media" Target="file:///tmp/home/.config/libreoffice/4/user/gallery/~PP3066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file:///tmp/home/.config/libreoffice/4/user/gallery/~PP2626.WAV" TargetMode="External"/><Relationship Id="rId4" Type="http://schemas.microsoft.com/office/2007/relationships/media" Target="file:///tmp/home/.config/libreoffice/4/user/gallery/~PP2626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file:///tmp/home/.config/libreoffice/4/user/gallery/~PP2296.WAV" TargetMode="External"/><Relationship Id="rId4" Type="http://schemas.microsoft.com/office/2007/relationships/media" Target="file:///tmp/home/.config/libreoffice/4/user/gallery/~PP2296.WAV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audio" Target="file:///tmp/home/.config/libreoffice/4/user/gallery/~PP2278.WAV" TargetMode="External"/><Relationship Id="rId5" Type="http://schemas.microsoft.com/office/2007/relationships/media" Target="file:///tmp/home/.config/libreoffice/4/user/gallery/~PP2278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audio" Target="file:///tmp/home/.config/libreoffice/4/user/gallery/~PP2869.WAV" TargetMode="External"/><Relationship Id="rId5" Type="http://schemas.microsoft.com/office/2007/relationships/media" Target="file:///tmp/home/.config/libreoffice/4/user/gallery/~PP2869.WAV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001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"/>
              </a:rPr>
              <a:t>Meine Ferie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"/>
              </a:rPr>
              <a:t>Veronika Mitch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5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49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habe mit dem Fische gespiel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352680" y="38088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5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habe geschwomme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2286000"/>
            <a:ext cx="538488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8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habe fur Nemo gesuchen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124080" y="2286000"/>
            <a:ext cx="5079960" cy="3860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1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449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habe die Sydney Observatory besucht. Ich habe die Sterne gesehe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518184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4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habe im Resturant gegesse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3526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7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"/>
              </a:rPr>
              <a:t>Es gefallt mir gut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38080" y="34290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0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u musst Australien besuche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09480" y="3352680"/>
            <a:ext cx="4670640" cy="3305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715000" y="3733920"/>
            <a:ext cx="2895480" cy="1218960"/>
          </a:xfrm>
          <a:prstGeom prst="leftArrow">
            <a:avLst>
              <a:gd name="adj1" fmla="val 50000"/>
              <a:gd name="adj2" fmla="val 59384"/>
            </a:avLst>
          </a:prstGeom>
          <a:solidFill>
            <a:srgbClr val="f7071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war in Australi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00400" y="2133720"/>
            <a:ext cx="5016600" cy="3768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8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war in Hotel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1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war in Sydney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080" y="2446200"/>
            <a:ext cx="4648320" cy="3718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4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96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habe die Oper besuch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4724640" cy="3533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7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7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habe mit dem Strauss getanz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038480" y="304920"/>
            <a:ext cx="4572000" cy="3454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0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habe in die Outbacks spaziere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52480" y="2514600"/>
            <a:ext cx="5615280" cy="3755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3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495320" y="35809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habe di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reat Barrier Ree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sehe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724280" y="380880"/>
            <a:ext cx="3810240" cy="2486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953160" cy="5276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7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h habe zum 32 Wallaby Way gefahre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191120" y="368604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rot="286800">
            <a:off x="4723920" y="59436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allaby 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066680" y="762120"/>
            <a:ext cx="3429000" cy="1985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2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8:07:00Z</dcterms:created>
  <dc:creator>CUSD220</dc:creator>
  <dc:description/>
  <dc:language>en-US</dc:language>
  <cp:lastModifiedBy>CUSD220</cp:lastModifiedBy>
  <dcterms:modified xsi:type="dcterms:W3CDTF">2011-11-28T13:00:39Z</dcterms:modified>
  <cp:revision>4</cp:revision>
  <dc:subject/>
  <dc:title>Meine Ferien</dc:title>
</cp:coreProperties>
</file>